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D69-F4FD-4C0D-89B0-2A99AA0B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FA6-37CB-4923-AD3B-705A779F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7C8-F60D-4DCA-BEEE-A0DD084E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385-BE6A-4313-842C-BFDDE32B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22F8-272D-401A-8A33-81A0FAE5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A813-B33B-41A2-8473-AEFB9BD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76A9-5B97-47EF-89C1-DB2968ED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975E-138C-4777-8D1C-AFE156F6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8EC-6943-4165-BE65-5338426A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30F4-1548-41C4-A5FE-95210453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6BA5-E1E2-40B6-9137-3A82E71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CAF-F967-434A-B926-98841C1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AB81-9D36-469A-9DAB-346C86B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3BEA-F1FA-42DB-B1F7-31C27E4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EC8E-DC5E-4A71-9447-11034D62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CD51-7633-4FA5-8F42-94D3D7D9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D3C-1F2C-4963-956F-3891DF4D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FA1-8EB3-4B89-8A77-55594E1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08F-808F-4046-9342-D77A3BF0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9F6-AEAC-4311-94E2-CFDBD47F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5D9-AF39-4235-8124-2F00C79C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016-5D9A-433F-8F98-7091DD1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3E8-6C1A-41EB-9973-A254D03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7FC-513D-4CE1-A3FE-5B1D9063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037E-2F7B-4A5D-9EC3-0B5B98CDD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9B6-DACD-47D1-BF25-B73E4A086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fcf0"/>
                </a:solidFill>
                <a:latin typeface="Bodoni MT"/>
              </a:rPr>
              <a:t>La rutina de ardill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152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n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720" y="1371240"/>
            <a:ext cx="5790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nta en el ar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572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lam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1080" y="1447560"/>
            <a:ext cx="56390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llama es Geo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62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rv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lar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r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358092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mira en espej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ei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no se afeita pero el uso la crema de afe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0098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narse la ro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523520"/>
            <a:ext cx="5181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pone la ro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4718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ayu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2320" y="1219320"/>
            <a:ext cx="579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desay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8005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os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560" y="1371600"/>
            <a:ext cx="4724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aco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66880" y="1990800"/>
            <a:ext cx="38102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rmi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 se dormi en ar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4572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ven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ardillas amigo leventa la ard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4193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8:10Z</dcterms:created>
  <dc:creator>chernoffale</dc:creator>
  <dc:description/>
  <dc:language>en-US</dc:language>
  <cp:lastModifiedBy>chernoffale</cp:lastModifiedBy>
  <dcterms:modified xsi:type="dcterms:W3CDTF">2012-04-05T13:22:34Z</dcterms:modified>
  <cp:revision>5</cp:revision>
  <dc:subject/>
  <dc:title>La rutina de ardilla</dc:title>
</cp:coreProperties>
</file>